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884F-2515-4642-9041-656FB26AF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5E5C-DB25-4F31-AE77-1218F2750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6E8D-13FC-4EF7-9845-78EDCEB78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F1DD-50CE-4217-9CC7-A681F39A6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1661-48FB-44A9-93D9-A14CFE040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343F-B695-4189-A6FC-5EFD9E20F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32DA-54D7-4D79-86CC-0758D6C6B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16D6-4C7F-4145-A5A3-F828961F4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E50F-5E35-4D83-829A-81EC3392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4E62-994D-47C1-9DA9-727A0DF2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65E2-9A79-43E2-AEBB-DC9B4D48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0DA5-4E2E-4116-BC43-F438E44B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EEA1A-C9FD-454F-BC20-6320CAE665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at Soci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4713120" cy="4376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33520" y="685800"/>
            <a:ext cx="4354560" cy="1125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006240" y="2249640"/>
            <a:ext cx="207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tion 49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s 1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0848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343400" y="0"/>
            <a:ext cx="4800600" cy="67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4803840" cy="3218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082200" y="1335240"/>
            <a:ext cx="207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tion 49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s 1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8956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159240" y="2325600"/>
            <a:ext cx="187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tion 49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9T13:58:27Z</dcterms:created>
  <dc:creator>School District U46</dc:creator>
  <dc:description/>
  <dc:language>en-US</dc:language>
  <cp:lastModifiedBy>School District U46</cp:lastModifiedBy>
  <dcterms:modified xsi:type="dcterms:W3CDTF">2011-04-29T13:58:43Z</dcterms:modified>
  <cp:revision>1</cp:revision>
  <dc:subject/>
  <dc:title>Great Society</dc:title>
</cp:coreProperties>
</file>